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2.gif" ContentType="image/gif"/>
  <Override PartName="/ppt/media/image5.png" ContentType="image/png"/>
  <Override PartName="/ppt/media/image6.jpeg" ContentType="image/jpeg"/>
  <Override PartName="/ppt/media/image10.png" ContentType="image/png"/>
  <Override PartName="/ppt/media/image4.jpeg" ContentType="image/jpeg"/>
  <Override PartName="/ppt/media/image25.png" ContentType="image/png"/>
  <Override PartName="/ppt/media/image3.png" ContentType="image/png"/>
  <Override PartName="/ppt/media/image17.jpeg" ContentType="image/jpeg"/>
  <Override PartName="/ppt/media/image12.jpeg" ContentType="image/jpeg"/>
  <Override PartName="/ppt/media/image26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ECCA-C7AC-4DB6-AF53-9AD1BE58A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1652-07C9-4DCD-A9D0-EC9175CF0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4AFE-E058-46FA-B4C3-6D1BECCE2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BA89-0CB6-4A2A-B45E-A61C516D6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EE309-3563-4BAC-A208-759C45C9E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91BD4-E0AC-4F7F-8611-DA3A6E3F7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CA099-AA81-4B73-A047-58FD28918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3F7AE-C0F8-457E-9A48-CD3437EF7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F2E75-C79B-4898-B4A3-F74A78979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A3EE1-E9DF-4008-B044-0535FFB14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85F84-E2A9-4DAE-8AC9-18B2BFD4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56D5-640D-47DE-8E86-1545AD48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F6354-CF96-414C-A59D-D06F0EFF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96999-E002-4709-8837-049E2AE4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00372-9730-4F4F-B0ED-98AD40717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945A4-D008-498F-9F08-0D55535B4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FCBBA-B6E4-4C17-912A-FD196DB43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9D89C-AB0C-4B2E-993B-1445FFD19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4C874-BC39-403A-AC08-052C94FC1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5E06A-9A1F-45E6-8E23-5748F163E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9B372-B71D-4710-8450-B9EFF604A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EFB66-1257-41BD-88D2-EAD473672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E798-F838-4BA5-8169-17AF04F42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FD0E2-6071-4D86-9C67-AB332ADEE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A90C6-A921-4D10-BE02-8CC618F8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620E7-C0CC-414A-95B1-91F1E1F7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A0005-69F3-4AFC-872F-3D9EA809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215F3-389D-460D-8A6A-B52790BA5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F220E-40B0-4559-8390-F264EDE74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38A76-16BE-4EF6-B2A9-95F01BFBD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DA63-1D15-4105-93F9-FAB0109F2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4259-C629-44F8-9281-A9E9FF3BC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8816-0996-4708-BFA1-2CF3016E4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FF6A-A3A4-4592-BE8C-26CC6D76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1780-D2E3-49C9-A644-8F7B7458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B422-25A2-46EB-A192-2DA94E67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83F49-DF81-4FA5-BC7C-BA8A55B06E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98B67-81DF-452E-AC81-2E0B8FE50BF0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732AF-551A-4881-BE1D-D694350AF000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99"/>
                </a:solidFill>
                <a:latin typeface="Arial"/>
              </a:rPr>
              <a:t>你对“男子汉”是如何理解的</a:t>
            </a:r>
            <a:r>
              <a:rPr b="0" lang="zh-CN" sz="4000" spc="-1" strike="noStrike">
                <a:solidFill>
                  <a:srgbClr val="990099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99"/>
                </a:solidFill>
                <a:latin typeface="Arial"/>
              </a:rPr>
              <a:t>你心目中的男子汉是谁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8763120" cy="27385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1295280" y="0"/>
            <a:ext cx="6467760" cy="14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我说“男子汉”</a:t>
            </a:r>
            <a:endParaRPr b="1" i="1" lang="en-US" sz="72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7467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13440" y="-105120"/>
            <a:ext cx="1094760" cy="53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ff33"/>
                </a:solidFill>
                <a:latin typeface="Times New Roman"/>
              </a:rPr>
              <a:t>诚实，正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340720" y="1248840"/>
            <a:ext cx="1018440" cy="49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9999"/>
                </a:solidFill>
                <a:latin typeface="Times New Roman"/>
              </a:rPr>
              <a:t>豁达的胸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09640" y="2284920"/>
            <a:ext cx="91152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ff"/>
                </a:solidFill>
                <a:latin typeface="Times New Roman"/>
              </a:rPr>
              <a:t>博学多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737880" y="685800"/>
            <a:ext cx="24742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33cc33"/>
                </a:solidFill>
                <a:latin typeface="Times New Roman"/>
              </a:rPr>
              <a:t>有强烈的进取心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024240" y="1538280"/>
            <a:ext cx="88128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66ff99"/>
                </a:solidFill>
                <a:latin typeface="Times New Roman"/>
              </a:rPr>
              <a:t>兴趣广泛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61960" y="1337400"/>
            <a:ext cx="142956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808080"/>
                </a:solidFill>
                <a:latin typeface="Times New Roman"/>
              </a:rPr>
              <a:t>坚强的意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855320" y="1947240"/>
            <a:ext cx="78984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Arial"/>
              </a:rPr>
              <a:t>有责任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24000" y="1052640"/>
            <a:ext cx="8534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家看下列人物的行为是不是男子汉，你是否对男子汉的内涵有了新的认识。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4000" y="479736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7238880" y="380880"/>
            <a:ext cx="15433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拼搏</a:t>
            </a:r>
            <a:endParaRPr b="1" lang="en-US" sz="6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952880" y="914400"/>
            <a:ext cx="2438640" cy="32004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186000" y="1211400"/>
            <a:ext cx="1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057400" y="380880"/>
            <a:ext cx="2743200" cy="45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责任</a:t>
            </a:r>
            <a:endParaRPr b="1" lang="en-US" sz="8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 txBox="1"/>
          <p:nvPr/>
        </p:nvSpPr>
        <p:spPr>
          <a:xfrm>
            <a:off x="0" y="533520"/>
            <a:ext cx="3200400" cy="319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进取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86868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731680" y="320760"/>
            <a:ext cx="49716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安徽省太和县原墙镇的杨俊，今年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岁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刚上初一，他小小年纪却不得不挑起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活的重担。两年前，母亲因不堪忍受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困的生活，离家出走。父亲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年前患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脑血栓，至今没有痊愈，完全丧失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劳动能力。家里还有一个患有老年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呆症的奶奶需要照顾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963520" y="1135080"/>
            <a:ext cx="4258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自从妈妈离家出走后，杨俊就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边学习，一边干家务活儿，照顾两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老人，家里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亩多地的农活儿也是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一个人干。他说：“生活再苦再累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我也要坚持下去，照顾爸爸、奶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一辈子。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2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4000"/>
                            </p:stCondLst>
                            <p:childTnLst>
                              <p:par>
                                <p:cTn id="2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2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6000"/>
                            </p:stCondLst>
                            <p:childTnLst>
                              <p:par>
                                <p:cTn id="2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2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2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2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2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 txBox="1"/>
          <p:nvPr/>
        </p:nvSpPr>
        <p:spPr>
          <a:xfrm>
            <a:off x="380880" y="1143000"/>
            <a:ext cx="2057400" cy="312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自信</a:t>
            </a:r>
            <a:endParaRPr b="0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2286000"/>
            <a:ext cx="8915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隶书"/>
                <a:ea typeface="隶书"/>
              </a:rPr>
              <a:t>一、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990099"/>
                </a:solidFill>
                <a:latin typeface="隶书"/>
                <a:ea typeface="隶书"/>
              </a:rPr>
              <a:t>讨论什么是真正的“男子汉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隶书"/>
                <a:ea typeface="隶书"/>
              </a:rPr>
              <a:t>二、 班上的男子汉要顶起属于自己的天空</a:t>
            </a:r>
            <a:r>
              <a:rPr b="1" lang="zh-CN" sz="3200" spc="-1" strike="noStrike">
                <a:solidFill>
                  <a:srgbClr val="990099"/>
                </a:solidFill>
                <a:latin typeface="隶书"/>
                <a:ea typeface="隶书"/>
              </a:rPr>
              <a:t>-----</a:t>
            </a:r>
            <a:r>
              <a:rPr b="1" lang="zh-CN" sz="3200" spc="-1" strike="noStrike">
                <a:solidFill>
                  <a:srgbClr val="990099"/>
                </a:solidFill>
                <a:latin typeface="隶书"/>
                <a:ea typeface="隶书"/>
              </a:rPr>
              <a:t>向女生挑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隶书"/>
                <a:ea typeface="隶书"/>
              </a:rPr>
              <a:t>三、 班上的女生鼓励男生</a:t>
            </a:r>
            <a:r>
              <a:rPr b="1" lang="zh-CN" sz="3200" spc="-1" strike="noStrike">
                <a:solidFill>
                  <a:srgbClr val="990099"/>
                </a:solidFill>
                <a:latin typeface="隶书"/>
                <a:ea typeface="隶书"/>
              </a:rPr>
              <a:t>,</a:t>
            </a:r>
            <a:r>
              <a:rPr b="1" lang="zh-CN" sz="3200" spc="-1" strike="noStrike">
                <a:solidFill>
                  <a:srgbClr val="990099"/>
                </a:solidFill>
                <a:latin typeface="隶书"/>
                <a:ea typeface="隶书"/>
              </a:rPr>
              <a:t>送他们一句话</a:t>
            </a:r>
            <a:r>
              <a:rPr b="1" lang="zh-CN" sz="3200" spc="-1" strike="noStrike">
                <a:solidFill>
                  <a:srgbClr val="990099"/>
                </a:solidFill>
                <a:latin typeface="隶书"/>
                <a:ea typeface="隶书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80880" y="304920"/>
            <a:ext cx="4077000" cy="30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班会内容</a:t>
            </a:r>
            <a:endParaRPr b="1" lang="en-US" sz="8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7315200" y="5327640"/>
            <a:ext cx="182880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610160" y="480960"/>
            <a:ext cx="5983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其实不论年龄长幼、地位尊卑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事业大小只要在勇敢地乐观的拼搏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追求积极的人生都应当被视为男子汉或女强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000520" y="213120"/>
            <a:ext cx="5789160" cy="62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每只鹰的尽头都是苍穹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每个男子汉的结局都是胜利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多一份坚毅果断，少一份忧愁缠绵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多一些深明大义，少一些鸡毛蒜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花，就有盛开的理由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只要保持花开的信念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坚信自己会成为一个顶天立地的男子汉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就一定会成功，到达梦想的彼岸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老夫聊发少年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左牵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右擎苍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会挽雕弓如满月，西北望，射天狼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让广阔的胸襟与必胜的信心助你迈如男子汉的行列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鹏展翅，终究飞上云端，翱翔在无垠的天空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000"/>
                            </p:stCondLst>
                            <p:childTnLst>
                              <p:par>
                                <p:cTn id="2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4000"/>
                            </p:stCondLst>
                            <p:childTnLst>
                              <p:par>
                                <p:cTn id="2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0"/>
                            </p:stCondLst>
                            <p:childTnLst>
                              <p:par>
                                <p:cTn id="2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6000"/>
                            </p:stCondLst>
                            <p:childTnLst>
                              <p:par>
                                <p:cTn id="3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7000"/>
                            </p:stCondLst>
                            <p:childTnLst>
                              <p:par>
                                <p:cTn id="3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8000"/>
                            </p:stCondLst>
                            <p:childTnLst>
                              <p:par>
                                <p:cTn id="3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10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9000"/>
                            </p:stCondLst>
                            <p:childTnLst>
                              <p:par>
                                <p:cTn id="3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1000" fill="hold"/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133720" y="228600"/>
            <a:ext cx="4484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828800" y="152280"/>
            <a:ext cx="488952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 rot="5400000">
            <a:off x="1615680" y="2409840"/>
            <a:ext cx="5911920" cy="2038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体会</a:t>
            </a:r>
            <a:r>
              <a:rPr b="1" lang="en-US" sz="80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·</a:t>
            </a:r>
            <a:r>
              <a:rPr b="1" lang="zh-CN" sz="80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感悟</a:t>
            </a:r>
            <a:endParaRPr b="1" lang="en-US" sz="80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315200" y="5327640"/>
            <a:ext cx="1828800" cy="153036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541008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男子汉”名称的由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990720"/>
            <a:ext cx="472428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91764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我国男子称“汉”，始于汉武帝时期。当时汉朝将士作战勇猛，匈奴兵将汉兵称为“汉儿”和“好汉”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       南北朝时期，有称男子为“汉子”的。北齐文宣帝因任命魏恺为青州长史，其固辞不就，便对人说：“何物汉子，我与官不肯就。” 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       武则天临朝时，让狄仁杰推荐“一好汉任使”，被推荐者是荆州长使张束之。后来，苏轼有诗论及此事：“人间一好汉，谁似张长使。” 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      到宋朝以后，便出现了“男子汉”的说法。当时把有作为、有勇气、要干一番事业的男人，称为 “男子汉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609480" y="380880"/>
            <a:ext cx="2038320" cy="135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讨论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39" name=""/>
          <p:cNvSpPr/>
          <p:nvPr/>
        </p:nvSpPr>
        <p:spPr>
          <a:xfrm>
            <a:off x="1642320" y="2438280"/>
            <a:ext cx="5622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99"/>
                </a:solidFill>
                <a:latin typeface="Arial"/>
              </a:rPr>
              <a:t>什么是真正的“男子汉”</a:t>
            </a:r>
            <a:r>
              <a:rPr b="1" lang="zh-CN" sz="6000" spc="-1" strike="noStrike">
                <a:solidFill>
                  <a:srgbClr val="009999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730600" y="6922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99"/>
                </a:solidFill>
                <a:latin typeface="Arial"/>
              </a:rPr>
              <a:t>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010280" y="5105520"/>
            <a:ext cx="182880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80880" y="60948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英俊的脸庞，高大的块头，苍黑的皮肤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健壮的体魄，是男子汉外在的气质特征。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705720" y="4343400"/>
            <a:ext cx="1828800" cy="1530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287240" y="243828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至于男子汉的内涵品格似乎还有点难以界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380988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关于男人的优秀有很多说法，什么“男儿有泪不轻弹”，“男儿膝下有黄金”，“好男儿志在四方”等等，似乎只要不哭不跪，敢于四海闯荡，就是“好男儿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2286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但依我看，有三点最关键，少一条不可，多一条也不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629400" y="4419720"/>
            <a:ext cx="1828800" cy="15303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0" y="388620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二  是要有宽广的胸襟气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44792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一是要有果断的决策能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21337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无论身处多么错综复杂的环境，总能敏锐地把握问题的实质所在，迅速提出正确的主见，而不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前顾后，优柔寡断，婆婆妈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4572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胸怀宽广，方能看得远，看得开；气度宏大，才可拿的起，放的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390400" y="5867280"/>
            <a:ext cx="437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宰相肚里能撑船”，即便是惊涛骇浪，依然自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33520" y="3049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匹夫见辱，拔剑而起，终究是一介匹夫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焉能成其大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190512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三是要有承担责任的勇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010280" y="4419720"/>
            <a:ext cx="1828800" cy="15303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80880" y="26668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家事国事天下事，事事关己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34290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一人做事一人当，天大的过错也绝不推诿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18440" y="426708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不争抢也不屑于不属于自己的荣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889280" y="3732840"/>
            <a:ext cx="5789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我国有位举世钦佩的领导人，个子不高，相貌平凡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命运多舛，三起三落，却领导中国人民作出了一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惊天动地的大事业，你能说他不是男子汉吗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67040" y="761040"/>
            <a:ext cx="587520" cy="20437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如果一个男人具备了上述的外在气质与内在品格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那么当之无愧的是一个堂堂男子汉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但是，很多男人往往只具备了其中的一方面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是外质或是内品。这时，当取其内而舍其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6000"/>
                            </p:stCondLst>
                            <p:childTnLst>
                              <p:par>
                                <p:cTn id="1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04920" y="2514600"/>
            <a:ext cx="18396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22860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隶书"/>
                <a:ea typeface="隶书"/>
              </a:rPr>
              <a:t>你将来想成为一名顶天立地的男子汉吗？ </a:t>
            </a:r>
            <a:br>
              <a:rPr sz="3200"/>
            </a:br>
            <a:r>
              <a:rPr b="1" lang="zh-CN" sz="3200" spc="-1" strike="noStrike">
                <a:solidFill>
                  <a:srgbClr val="009999"/>
                </a:solidFill>
                <a:latin typeface="隶书"/>
                <a:ea typeface="隶书"/>
              </a:rPr>
              <a:t>对每一位小伙子来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隶书"/>
                <a:ea typeface="隶书"/>
              </a:rPr>
              <a:t>男子汉是一个非常响亮，威武的称号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隶书"/>
                <a:ea typeface="隶书"/>
              </a:rPr>
              <a:t>它充满着力量，气魄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隶书"/>
                <a:ea typeface="隶书"/>
              </a:rPr>
              <a:t>象征着坚忍，刚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隶书"/>
                <a:ea typeface="隶书"/>
              </a:rPr>
              <a:t>蕴含着勇敢，毅力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隶书"/>
                <a:ea typeface="隶书"/>
              </a:rPr>
              <a:t>展示着正直，善良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隶书"/>
                <a:ea typeface="隶书"/>
              </a:rPr>
              <a:t>体现着勤奋，智慧！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477120" y="4267080"/>
            <a:ext cx="182880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0:36:34Z</dcterms:modified>
  <cp:revision>14</cp:revision>
  <dc:subject>主题班会课件(分28大类): http://shop62905894.taobao.com</dc:subject>
  <dc:title>主题班会课件(分28大类): http://shop62905894.taobao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